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51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293E-560C-4BCE-838E-61AFA3A4B7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B9A5-433F-4B6F-BB8B-A7BEA97E29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722E-CD80-48EE-913C-D32BBB6E48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E970-2BA1-41CF-B93C-8AB58D0664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D2B-8ECB-410A-8A70-5E8BE71E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30E-2E69-404C-8DE5-F7F00B2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635-9C92-4A35-9B0C-8F83D80B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6C4-0C40-45E9-8D5D-92343371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2C1-DF74-478C-B338-26142F6F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95A-D5DD-4BEF-BC65-B29EA026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2DF-B8DC-4D57-B1F9-E48ECCD1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3A6-0FCE-43E0-896A-989AD5D3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FA7-53DB-4D8D-AE8F-821C9F76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F86-2A06-4335-880B-3E31E99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472-BB46-4CFB-854E-5215573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57F-9916-4CAE-A159-143C3AD3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D859-3857-4BC2-868C-32E8DCDE8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7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8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9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0.wmf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9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4.wm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143080" y="3238920"/>
            <a:ext cx="45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5.3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二次根式的加减运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五章 二次根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105"/>
          <p:cNvSpPr/>
          <p:nvPr/>
        </p:nvSpPr>
        <p:spPr>
          <a:xfrm>
            <a:off x="466560" y="62064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对象 -2147482548"/>
          <p:cNvGraphicFramePr/>
          <p:nvPr/>
        </p:nvGraphicFramePr>
        <p:xfrm>
          <a:off x="755640" y="1268280"/>
          <a:ext cx="3165480" cy="9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对象 -214748254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268280"/>
                    <a:ext cx="31654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6"/>
          <p:cNvSpPr/>
          <p:nvPr/>
        </p:nvSpPr>
        <p:spPr>
          <a:xfrm>
            <a:off x="539640" y="256536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对象 -2147482546"/>
          <p:cNvGraphicFramePr/>
          <p:nvPr/>
        </p:nvGraphicFramePr>
        <p:xfrm>
          <a:off x="1260360" y="2565360"/>
          <a:ext cx="2614680" cy="77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对象 -214748254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60360" y="2565360"/>
                    <a:ext cx="26146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对象 2"/>
          <p:cNvGraphicFramePr/>
          <p:nvPr/>
        </p:nvGraphicFramePr>
        <p:xfrm>
          <a:off x="1403280" y="3573360"/>
          <a:ext cx="1905120" cy="96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9" name="对象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3573360"/>
                    <a:ext cx="19051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对象 4"/>
          <p:cNvGraphicFramePr/>
          <p:nvPr/>
        </p:nvGraphicFramePr>
        <p:xfrm>
          <a:off x="1403280" y="4724280"/>
          <a:ext cx="1548000" cy="82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1" name="对象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3280" y="4724280"/>
                    <a:ext cx="1548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对象 -2147482547"/>
          <p:cNvGraphicFramePr/>
          <p:nvPr/>
        </p:nvGraphicFramePr>
        <p:xfrm>
          <a:off x="3995640" y="1268280"/>
          <a:ext cx="5127840" cy="1001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3" name="对象 -214748254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1268280"/>
                    <a:ext cx="512784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对象 -2147482545"/>
          <p:cNvGraphicFramePr/>
          <p:nvPr/>
        </p:nvGraphicFramePr>
        <p:xfrm>
          <a:off x="1763640" y="1689120"/>
          <a:ext cx="51516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对象 -214748254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689120"/>
                    <a:ext cx="51516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对象 -2147482547"/>
          <p:cNvGraphicFramePr/>
          <p:nvPr/>
        </p:nvGraphicFramePr>
        <p:xfrm>
          <a:off x="826920" y="620640"/>
          <a:ext cx="5127840" cy="100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对象 -214748254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620640"/>
                    <a:ext cx="51278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6"/>
          <p:cNvSpPr/>
          <p:nvPr/>
        </p:nvSpPr>
        <p:spPr>
          <a:xfrm>
            <a:off x="755640" y="184464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852480" y="148284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二次根式的加减法</a:t>
            </a: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"/>
          <p:cNvSpPr/>
          <p:nvPr/>
        </p:nvSpPr>
        <p:spPr>
          <a:xfrm>
            <a:off x="758880" y="2536920"/>
            <a:ext cx="820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"/>
          <p:cNvSpPr/>
          <p:nvPr/>
        </p:nvSpPr>
        <p:spPr>
          <a:xfrm>
            <a:off x="395280" y="2130480"/>
            <a:ext cx="80452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加减运算，其实是将被开方数相同的项进行合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此，首先应将每个二次根式化简为最简二次根式，然后将被开方数相同的最简二次根式进行合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二次根式的加减运算法则，并进行计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灵活运用二次根式的加减运算解决有关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76360" y="16272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数的加减运算法则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82560" y="4149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并同类项的实质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826920" y="4726080"/>
            <a:ext cx="34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乘法分配律的逆向运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466560" y="2205000"/>
            <a:ext cx="84488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法法则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(1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号两数相加，取相同的符号，并把它们的绝对值相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(2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异号两数相加，取绝对值大的加数的符号，并用较大的绝对值减去较小的绝对值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减法法则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减去一个数等于加上这个数的相反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6147"/>
          <p:cNvGrpSpPr/>
          <p:nvPr/>
        </p:nvGrpSpPr>
        <p:grpSpPr>
          <a:xfrm>
            <a:off x="325440" y="246240"/>
            <a:ext cx="3307320" cy="806400"/>
            <a:chOff x="325440" y="246240"/>
            <a:chExt cx="3307320" cy="806400"/>
          </a:xfrm>
        </p:grpSpPr>
        <p:sp>
          <p:nvSpPr>
            <p:cNvPr id="91" name="矩形 7"/>
            <p:cNvSpPr/>
            <p:nvPr/>
          </p:nvSpPr>
          <p:spPr>
            <a:xfrm>
              <a:off x="885240" y="246240"/>
              <a:ext cx="167256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16"/>
            <p:cNvSpPr/>
            <p:nvPr/>
          </p:nvSpPr>
          <p:spPr>
            <a:xfrm>
              <a:off x="325440" y="53496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151"/>
            <p:cNvSpPr/>
            <p:nvPr/>
          </p:nvSpPr>
          <p:spPr>
            <a:xfrm>
              <a:off x="153180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二次根式的加减运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6152"/>
            <p:cNvSpPr/>
            <p:nvPr/>
          </p:nvSpPr>
          <p:spPr>
            <a:xfrm>
              <a:off x="325440" y="534240"/>
              <a:ext cx="5536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324000" y="2781360"/>
            <a:ext cx="87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析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决此类问题的关键就是“一化二比”，“化”就是将二次根式化为最简二次根式，“比”就是比较化简后的被开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2"/>
          <p:cNvGrpSpPr/>
          <p:nvPr/>
        </p:nvGrpSpPr>
        <p:grpSpPr>
          <a:xfrm>
            <a:off x="250920" y="1052640"/>
            <a:ext cx="8308800" cy="642600"/>
            <a:chOff x="250920" y="1052640"/>
            <a:chExt cx="8308800" cy="642600"/>
          </a:xfrm>
        </p:grpSpPr>
        <p:sp>
          <p:nvSpPr>
            <p:cNvPr id="98" name="TextBox 3"/>
            <p:cNvSpPr/>
            <p:nvPr/>
          </p:nvSpPr>
          <p:spPr>
            <a:xfrm>
              <a:off x="250920" y="1052640"/>
              <a:ext cx="830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黑体"/>
                  <a:ea typeface="黑体"/>
                </a:rPr>
                <a:t>问题</a:t>
              </a:r>
              <a:r>
                <a:rPr b="1" lang="en-US" sz="2400" spc="-1" strike="noStrike">
                  <a:solidFill>
                    <a:srgbClr val="228b8b"/>
                  </a:solidFill>
                  <a:latin typeface="Times New Roman"/>
                  <a:ea typeface="黑体"/>
                </a:rPr>
                <a:t>1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列二次根式与        可以合并的是     （    ）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" name="对象 1"/>
            <p:cNvGraphicFramePr/>
            <p:nvPr/>
          </p:nvGraphicFramePr>
          <p:xfrm>
            <a:off x="3347640" y="1197360"/>
            <a:ext cx="581040" cy="39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0" name="对象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47640" y="1197360"/>
                      <a:ext cx="58104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文本框 3"/>
          <p:cNvSpPr/>
          <p:nvPr/>
        </p:nvSpPr>
        <p:spPr>
          <a:xfrm>
            <a:off x="466560" y="1917720"/>
            <a:ext cx="78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               B.                 C.              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对象 4"/>
          <p:cNvGraphicFramePr/>
          <p:nvPr/>
        </p:nvGraphicFramePr>
        <p:xfrm>
          <a:off x="898560" y="1917720"/>
          <a:ext cx="538200" cy="39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对象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8560" y="1917720"/>
                    <a:ext cx="538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对象 5"/>
          <p:cNvGraphicFramePr/>
          <p:nvPr/>
        </p:nvGraphicFramePr>
        <p:xfrm>
          <a:off x="2411280" y="1916280"/>
          <a:ext cx="72396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对象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1916280"/>
                    <a:ext cx="7239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对象 6"/>
          <p:cNvGraphicFramePr/>
          <p:nvPr/>
        </p:nvGraphicFramePr>
        <p:xfrm>
          <a:off x="4010040" y="1905120"/>
          <a:ext cx="654120" cy="420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对象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10040" y="1905120"/>
                    <a:ext cx="654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对象 8"/>
          <p:cNvGraphicFramePr/>
          <p:nvPr/>
        </p:nvGraphicFramePr>
        <p:xfrm>
          <a:off x="5413320" y="1905120"/>
          <a:ext cx="582840" cy="42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9" name="对象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13320" y="1905120"/>
                    <a:ext cx="5828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文本框 10"/>
          <p:cNvSpPr/>
          <p:nvPr/>
        </p:nvSpPr>
        <p:spPr>
          <a:xfrm>
            <a:off x="637236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2"/>
          <p:cNvGrpSpPr/>
          <p:nvPr/>
        </p:nvGrpSpPr>
        <p:grpSpPr>
          <a:xfrm>
            <a:off x="395280" y="4221000"/>
            <a:ext cx="8352000" cy="642600"/>
            <a:chOff x="395280" y="4221000"/>
            <a:chExt cx="8352000" cy="642600"/>
          </a:xfrm>
        </p:grpSpPr>
        <p:sp>
          <p:nvSpPr>
            <p:cNvPr id="112" name="Rectangle 22"/>
            <p:cNvSpPr/>
            <p:nvPr/>
          </p:nvSpPr>
          <p:spPr>
            <a:xfrm>
              <a:off x="395280" y="4221000"/>
              <a:ext cx="83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黑体"/>
                  <a:ea typeface="黑体"/>
                </a:rPr>
                <a:t>想一想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对象 11"/>
            <p:cNvGraphicFramePr/>
            <p:nvPr/>
          </p:nvGraphicFramePr>
          <p:xfrm>
            <a:off x="1978920" y="4293360"/>
            <a:ext cx="2088360" cy="469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4" name="对象 11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978920" y="4293360"/>
                      <a:ext cx="20883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324000" y="406440"/>
            <a:ext cx="83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  </a:t>
            </a: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计算下列各式：</a:t>
            </a:r>
            <a:r>
              <a:rPr b="1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对象 -2147482577"/>
          <p:cNvGraphicFramePr/>
          <p:nvPr/>
        </p:nvGraphicFramePr>
        <p:xfrm>
          <a:off x="1332000" y="1127160"/>
          <a:ext cx="5248080" cy="61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对象 -214748257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27160"/>
                    <a:ext cx="52480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文本框 1"/>
          <p:cNvSpPr/>
          <p:nvPr/>
        </p:nvSpPr>
        <p:spPr>
          <a:xfrm>
            <a:off x="636480" y="11984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"/>
          <p:cNvSpPr/>
          <p:nvPr/>
        </p:nvSpPr>
        <p:spPr>
          <a:xfrm>
            <a:off x="565200" y="27097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"/>
          <p:cNvSpPr/>
          <p:nvPr/>
        </p:nvSpPr>
        <p:spPr>
          <a:xfrm>
            <a:off x="636480" y="48704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对象 -2147482576"/>
          <p:cNvGraphicFramePr/>
          <p:nvPr/>
        </p:nvGraphicFramePr>
        <p:xfrm>
          <a:off x="1138320" y="2708280"/>
          <a:ext cx="737388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对象 -21474825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38320" y="2708280"/>
                    <a:ext cx="73738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-2147482575"/>
          <p:cNvGraphicFramePr/>
          <p:nvPr/>
        </p:nvGraphicFramePr>
        <p:xfrm>
          <a:off x="1260360" y="4581360"/>
          <a:ext cx="6783480" cy="94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对象 -214748257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60360" y="4581360"/>
                    <a:ext cx="678348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文本框 9"/>
          <p:cNvSpPr/>
          <p:nvPr/>
        </p:nvSpPr>
        <p:spPr>
          <a:xfrm>
            <a:off x="1597320" y="1630440"/>
            <a:ext cx="1480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含有相同的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次根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0"/>
          <p:cNvSpPr/>
          <p:nvPr/>
        </p:nvSpPr>
        <p:spPr>
          <a:xfrm>
            <a:off x="4059360" y="3009960"/>
            <a:ext cx="1857240" cy="1908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1"/>
          <p:cNvSpPr/>
          <p:nvPr/>
        </p:nvSpPr>
        <p:spPr>
          <a:xfrm>
            <a:off x="6145200" y="2984400"/>
            <a:ext cx="1859040" cy="1764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4263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4"/>
          <p:cNvSpPr/>
          <p:nvPr/>
        </p:nvSpPr>
        <p:spPr>
          <a:xfrm>
            <a:off x="797040" y="1019160"/>
            <a:ext cx="1857240" cy="1908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5"/>
          <p:cNvSpPr/>
          <p:nvPr/>
        </p:nvSpPr>
        <p:spPr>
          <a:xfrm flipV="1">
            <a:off x="3556080" y="5479560"/>
            <a:ext cx="1807920" cy="324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6"/>
          <p:cNvSpPr/>
          <p:nvPr/>
        </p:nvSpPr>
        <p:spPr>
          <a:xfrm>
            <a:off x="3829320" y="5445000"/>
            <a:ext cx="1480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含有相同的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次根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7"/>
          <p:cNvSpPr/>
          <p:nvPr/>
        </p:nvSpPr>
        <p:spPr>
          <a:xfrm>
            <a:off x="4045320" y="3359160"/>
            <a:ext cx="1480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含有相同的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次根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8"/>
          <p:cNvSpPr/>
          <p:nvPr/>
        </p:nvSpPr>
        <p:spPr>
          <a:xfrm>
            <a:off x="6423480" y="343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9"/>
          <p:cNvSpPr/>
          <p:nvPr/>
        </p:nvSpPr>
        <p:spPr>
          <a:xfrm>
            <a:off x="6063120" y="544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0"/>
          <p:cNvSpPr/>
          <p:nvPr/>
        </p:nvSpPr>
        <p:spPr>
          <a:xfrm>
            <a:off x="5751360" y="5470560"/>
            <a:ext cx="1859040" cy="19080"/>
          </a:xfrm>
          <a:prstGeom prst="line">
            <a:avLst/>
          </a:prstGeom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对象 7"/>
          <p:cNvGraphicFramePr/>
          <p:nvPr/>
        </p:nvGraphicFramePr>
        <p:xfrm>
          <a:off x="4211640" y="1054080"/>
          <a:ext cx="1030320" cy="598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7" name="对象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1640" y="1054080"/>
                    <a:ext cx="10303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对象 21"/>
          <p:cNvGraphicFramePr/>
          <p:nvPr/>
        </p:nvGraphicFramePr>
        <p:xfrm>
          <a:off x="5940360" y="1198440"/>
          <a:ext cx="482760" cy="462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9" name="对象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1198440"/>
                    <a:ext cx="4827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对象 23"/>
          <p:cNvGraphicFramePr/>
          <p:nvPr/>
        </p:nvGraphicFramePr>
        <p:xfrm>
          <a:off x="2484360" y="2075040"/>
          <a:ext cx="362160" cy="461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1" name="对象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84360" y="2075040"/>
                    <a:ext cx="3621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对象 25"/>
          <p:cNvGraphicFramePr/>
          <p:nvPr/>
        </p:nvGraphicFramePr>
        <p:xfrm>
          <a:off x="4059360" y="2709720"/>
          <a:ext cx="1157040" cy="532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3" name="对象 2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59360" y="2709720"/>
                    <a:ext cx="11570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对象 27"/>
          <p:cNvGraphicFramePr/>
          <p:nvPr/>
        </p:nvGraphicFramePr>
        <p:xfrm>
          <a:off x="6181560" y="2639880"/>
          <a:ext cx="1030320" cy="598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5" name="对象 2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81560" y="2639880"/>
                    <a:ext cx="10303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对象 31"/>
          <p:cNvGraphicFramePr/>
          <p:nvPr/>
        </p:nvGraphicFramePr>
        <p:xfrm>
          <a:off x="7885080" y="2709720"/>
          <a:ext cx="480960" cy="462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7" name="对象 3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885080" y="2709720"/>
                    <a:ext cx="4809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33"/>
          <p:cNvGraphicFramePr/>
          <p:nvPr/>
        </p:nvGraphicFramePr>
        <p:xfrm>
          <a:off x="4932360" y="3933720"/>
          <a:ext cx="361800" cy="4622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9" name="对象 3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32360" y="3933720"/>
                    <a:ext cx="3618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35"/>
          <p:cNvGraphicFramePr/>
          <p:nvPr/>
        </p:nvGraphicFramePr>
        <p:xfrm>
          <a:off x="3851280" y="4402080"/>
          <a:ext cx="1366920" cy="897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1" name="对象 3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51280" y="4402080"/>
                    <a:ext cx="136692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37"/>
          <p:cNvGraphicFramePr/>
          <p:nvPr/>
        </p:nvGraphicFramePr>
        <p:xfrm>
          <a:off x="4759200" y="6000840"/>
          <a:ext cx="457200" cy="345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3" name="对象 3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759200" y="6000840"/>
                    <a:ext cx="4572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对象 39"/>
          <p:cNvGraphicFramePr/>
          <p:nvPr/>
        </p:nvGraphicFramePr>
        <p:xfrm>
          <a:off x="5715000" y="4292640"/>
          <a:ext cx="1130400" cy="9698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55" name="对象 3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715000" y="4292640"/>
                    <a:ext cx="11304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对象 41"/>
          <p:cNvGraphicFramePr/>
          <p:nvPr/>
        </p:nvGraphicFramePr>
        <p:xfrm>
          <a:off x="7308720" y="4292640"/>
          <a:ext cx="798480" cy="990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57" name="对象 4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308720" y="4292640"/>
                    <a:ext cx="798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852480" y="148284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二次根式的加减法</a:t>
            </a:r>
            <a:r>
              <a:rPr b="0" lang="zh-CN" sz="2400" spc="-1" strike="noStrike">
                <a:solidFill>
                  <a:srgbClr val="2699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758880" y="2536920"/>
            <a:ext cx="820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395280" y="2130480"/>
            <a:ext cx="80452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加减运算，其实是将被开方数相同的项进行合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此，首先应将每个二次根式化简为最简二次根式，然后将被开方数相同的最简二次根式进行合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圆角矩形 31"/>
          <p:cNvSpPr/>
          <p:nvPr/>
        </p:nvSpPr>
        <p:spPr>
          <a:xfrm>
            <a:off x="2840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991800" y="1268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计算列各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对象 1"/>
          <p:cNvGraphicFramePr/>
          <p:nvPr/>
        </p:nvGraphicFramePr>
        <p:xfrm>
          <a:off x="900000" y="1773360"/>
          <a:ext cx="3121200" cy="5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73360"/>
                    <a:ext cx="31212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对象 2"/>
          <p:cNvGraphicFramePr/>
          <p:nvPr/>
        </p:nvGraphicFramePr>
        <p:xfrm>
          <a:off x="4572000" y="1628640"/>
          <a:ext cx="3675240" cy="97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628640"/>
                    <a:ext cx="36752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6"/>
          <p:cNvSpPr/>
          <p:nvPr/>
        </p:nvSpPr>
        <p:spPr>
          <a:xfrm>
            <a:off x="539640" y="256536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对象 3"/>
          <p:cNvGraphicFramePr/>
          <p:nvPr/>
        </p:nvGraphicFramePr>
        <p:xfrm>
          <a:off x="1403280" y="2637000"/>
          <a:ext cx="3041640" cy="56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对象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2637000"/>
                    <a:ext cx="30416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对象 4"/>
          <p:cNvGraphicFramePr/>
          <p:nvPr/>
        </p:nvGraphicFramePr>
        <p:xfrm>
          <a:off x="1474920" y="3284640"/>
          <a:ext cx="2716200" cy="488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对象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4920" y="3284640"/>
                    <a:ext cx="2716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对象 8"/>
          <p:cNvGraphicFramePr/>
          <p:nvPr/>
        </p:nvGraphicFramePr>
        <p:xfrm>
          <a:off x="1476360" y="3860640"/>
          <a:ext cx="1085760" cy="516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3" name="对象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3860640"/>
                    <a:ext cx="108576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对象 10"/>
          <p:cNvGraphicFramePr/>
          <p:nvPr/>
        </p:nvGraphicFramePr>
        <p:xfrm>
          <a:off x="4861080" y="2563920"/>
          <a:ext cx="3674880" cy="974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5" name="对象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61080" y="2563920"/>
                    <a:ext cx="36748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对象 11"/>
          <p:cNvGraphicFramePr/>
          <p:nvPr/>
        </p:nvGraphicFramePr>
        <p:xfrm>
          <a:off x="5003640" y="3500280"/>
          <a:ext cx="3337200" cy="974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7" name="对象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3640" y="3500280"/>
                    <a:ext cx="33372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对象 13"/>
          <p:cNvGraphicFramePr/>
          <p:nvPr/>
        </p:nvGraphicFramePr>
        <p:xfrm>
          <a:off x="5003640" y="4437000"/>
          <a:ext cx="2826000" cy="82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9" name="对象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03640" y="4437000"/>
                    <a:ext cx="2826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对象 15"/>
          <p:cNvGraphicFramePr/>
          <p:nvPr/>
        </p:nvGraphicFramePr>
        <p:xfrm>
          <a:off x="5076720" y="5300640"/>
          <a:ext cx="1728720" cy="828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81" name="对象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76720" y="5300640"/>
                    <a:ext cx="17287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6"/>
          <p:cNvGrpSpPr/>
          <p:nvPr/>
        </p:nvGrpSpPr>
        <p:grpSpPr>
          <a:xfrm>
            <a:off x="466560" y="2852640"/>
            <a:ext cx="5080320" cy="2936160"/>
            <a:chOff x="466560" y="2852640"/>
            <a:chExt cx="5080320" cy="2936160"/>
          </a:xfrm>
        </p:grpSpPr>
        <p:sp>
          <p:nvSpPr>
            <p:cNvPr id="184" name="文本框 4"/>
            <p:cNvSpPr/>
            <p:nvPr/>
          </p:nvSpPr>
          <p:spPr>
            <a:xfrm>
              <a:off x="466560" y="2852640"/>
              <a:ext cx="508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列计算中正确的是（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10"/>
            <p:cNvSpPr/>
            <p:nvPr/>
          </p:nvSpPr>
          <p:spPr>
            <a:xfrm>
              <a:off x="826560" y="3500280"/>
              <a:ext cx="2540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6" name="对象 -2147482567"/>
            <p:cNvGraphicFramePr/>
            <p:nvPr/>
          </p:nvGraphicFramePr>
          <p:xfrm>
            <a:off x="1258920" y="3644280"/>
            <a:ext cx="2257560" cy="457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7" name="对象 -214748256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58920" y="3644280"/>
                      <a:ext cx="2257560" cy="45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对象 -2147482566"/>
            <p:cNvGraphicFramePr/>
            <p:nvPr/>
          </p:nvGraphicFramePr>
          <p:xfrm>
            <a:off x="1258920" y="4148640"/>
            <a:ext cx="2315520" cy="492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9" name="对象 -214748256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58920" y="4148640"/>
                      <a:ext cx="2315520" cy="49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对象 -2147482564"/>
            <p:cNvGraphicFramePr/>
            <p:nvPr/>
          </p:nvGraphicFramePr>
          <p:xfrm>
            <a:off x="1258920" y="4652640"/>
            <a:ext cx="2181240" cy="614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1" name="对象 -214748256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258920" y="4652640"/>
                      <a:ext cx="2181240" cy="6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对象 -2147482563"/>
            <p:cNvGraphicFramePr/>
            <p:nvPr/>
          </p:nvGraphicFramePr>
          <p:xfrm>
            <a:off x="1258920" y="5300280"/>
            <a:ext cx="2819520" cy="477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3" name="对象 -214748256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58920" y="5300280"/>
                      <a:ext cx="2819520" cy="47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组合 17"/>
          <p:cNvGrpSpPr/>
          <p:nvPr/>
        </p:nvGrpSpPr>
        <p:grpSpPr>
          <a:xfrm>
            <a:off x="395280" y="836640"/>
            <a:ext cx="8402760" cy="1191240"/>
            <a:chOff x="395280" y="836640"/>
            <a:chExt cx="8402760" cy="1191240"/>
          </a:xfrm>
        </p:grpSpPr>
        <p:sp>
          <p:nvSpPr>
            <p:cNvPr id="195" name="文本框 3"/>
            <p:cNvSpPr/>
            <p:nvPr/>
          </p:nvSpPr>
          <p:spPr>
            <a:xfrm>
              <a:off x="395280" y="836640"/>
              <a:ext cx="840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最简二次根式                与        能合并成一项，则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值为（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5            B.2             C.3                D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对象 -2147482569"/>
            <p:cNvGraphicFramePr/>
            <p:nvPr/>
          </p:nvGraphicFramePr>
          <p:xfrm>
            <a:off x="3204000" y="980280"/>
            <a:ext cx="1015920" cy="435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7" name="对象 -214748256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204000" y="980280"/>
                      <a:ext cx="1015920" cy="43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对象 -2147482568"/>
            <p:cNvGraphicFramePr/>
            <p:nvPr/>
          </p:nvGraphicFramePr>
          <p:xfrm>
            <a:off x="4716000" y="980280"/>
            <a:ext cx="413280" cy="413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99" name="对象 -214748256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716000" y="980280"/>
                      <a:ext cx="413280" cy="41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0" name="文本框 18"/>
          <p:cNvSpPr/>
          <p:nvPr/>
        </p:nvSpPr>
        <p:spPr>
          <a:xfrm>
            <a:off x="1044720" y="14842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9"/>
          <p:cNvSpPr/>
          <p:nvPr/>
        </p:nvSpPr>
        <p:spPr>
          <a:xfrm>
            <a:off x="3851280" y="2852640"/>
            <a:ext cx="10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6"/>
          <p:cNvGrpSpPr/>
          <p:nvPr/>
        </p:nvGrpSpPr>
        <p:grpSpPr>
          <a:xfrm>
            <a:off x="466560" y="692280"/>
            <a:ext cx="8106120" cy="1483560"/>
            <a:chOff x="466560" y="692280"/>
            <a:chExt cx="8106120" cy="1483560"/>
          </a:xfrm>
        </p:grpSpPr>
        <p:sp>
          <p:nvSpPr>
            <p:cNvPr id="203" name="文本框 1"/>
            <p:cNvSpPr/>
            <p:nvPr/>
          </p:nvSpPr>
          <p:spPr>
            <a:xfrm>
              <a:off x="466560" y="692280"/>
              <a:ext cx="8106120" cy="14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计算                                的结果是（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                        B.                 C.                 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4" name="对象 -2147482562"/>
            <p:cNvGraphicFramePr/>
            <p:nvPr/>
          </p:nvGraphicFramePr>
          <p:xfrm>
            <a:off x="1474920" y="692280"/>
            <a:ext cx="2233440" cy="919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5" name="对象 -214748256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74920" y="692280"/>
                      <a:ext cx="223344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对象 -2147482561"/>
            <p:cNvGraphicFramePr/>
            <p:nvPr/>
          </p:nvGraphicFramePr>
          <p:xfrm>
            <a:off x="826560" y="1628280"/>
            <a:ext cx="1443240" cy="472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7" name="对象 -214748256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6560" y="1628280"/>
                      <a:ext cx="1443240" cy="47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对象 -2147482560"/>
            <p:cNvGraphicFramePr/>
            <p:nvPr/>
          </p:nvGraphicFramePr>
          <p:xfrm>
            <a:off x="2986920" y="1628280"/>
            <a:ext cx="1012320" cy="491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9" name="对象 -214748256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86920" y="1628280"/>
                      <a:ext cx="1012320" cy="49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对象 -2147482558"/>
            <p:cNvGraphicFramePr/>
            <p:nvPr/>
          </p:nvGraphicFramePr>
          <p:xfrm>
            <a:off x="4571640" y="1582200"/>
            <a:ext cx="1031040" cy="546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1" name="对象 -214748255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1640" y="1582200"/>
                      <a:ext cx="103104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对象 -2147482559"/>
            <p:cNvGraphicFramePr/>
            <p:nvPr/>
          </p:nvGraphicFramePr>
          <p:xfrm>
            <a:off x="6300360" y="1628280"/>
            <a:ext cx="644040" cy="405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13" name="对象 -214748255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300360" y="1628280"/>
                      <a:ext cx="644040" cy="40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组合 15"/>
          <p:cNvGrpSpPr/>
          <p:nvPr/>
        </p:nvGrpSpPr>
        <p:grpSpPr>
          <a:xfrm>
            <a:off x="466560" y="2492280"/>
            <a:ext cx="7677360" cy="2433960"/>
            <a:chOff x="466560" y="2492280"/>
            <a:chExt cx="7677360" cy="2433960"/>
          </a:xfrm>
        </p:grpSpPr>
        <p:sp>
          <p:nvSpPr>
            <p:cNvPr id="215" name="文本框 7"/>
            <p:cNvSpPr/>
            <p:nvPr/>
          </p:nvSpPr>
          <p:spPr>
            <a:xfrm>
              <a:off x="466560" y="2492280"/>
              <a:ext cx="7677360" cy="24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等腰三角形的两边长分别为          和           ，则这个等腰三角形的周长为（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                                     B.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                                     D.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6" name="对象 -2147482556"/>
            <p:cNvGraphicFramePr/>
            <p:nvPr/>
          </p:nvGraphicFramePr>
          <p:xfrm>
            <a:off x="5075280" y="2708280"/>
            <a:ext cx="612720" cy="4600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17" name="对象 -214748255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75280" y="2708280"/>
                      <a:ext cx="6127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对象 -2147482555"/>
            <p:cNvGraphicFramePr/>
            <p:nvPr/>
          </p:nvGraphicFramePr>
          <p:xfrm>
            <a:off x="6299640" y="2636280"/>
            <a:ext cx="659520" cy="4672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9" name="对象 -2147482555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299640" y="2636280"/>
                      <a:ext cx="659520" cy="46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对象 -2147482554"/>
            <p:cNvGraphicFramePr/>
            <p:nvPr/>
          </p:nvGraphicFramePr>
          <p:xfrm>
            <a:off x="970560" y="3860640"/>
            <a:ext cx="1326960" cy="4269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21" name="对象 -2147482554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970560" y="3860640"/>
                      <a:ext cx="132696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对象 -2147482544"/>
            <p:cNvGraphicFramePr/>
            <p:nvPr/>
          </p:nvGraphicFramePr>
          <p:xfrm>
            <a:off x="4139280" y="3789000"/>
            <a:ext cx="1474920" cy="4356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23" name="对象 -2147482544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139280" y="3789000"/>
                      <a:ext cx="1474920" cy="43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对象 -2147482552"/>
            <p:cNvGraphicFramePr/>
            <p:nvPr/>
          </p:nvGraphicFramePr>
          <p:xfrm>
            <a:off x="1030320" y="4403880"/>
            <a:ext cx="1556280" cy="4600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25" name="对象 -2147482552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030320" y="4403880"/>
                      <a:ext cx="155628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对象 -2147482550"/>
            <p:cNvGraphicFramePr/>
            <p:nvPr/>
          </p:nvGraphicFramePr>
          <p:xfrm>
            <a:off x="3995280" y="4437720"/>
            <a:ext cx="1551960" cy="4586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227" name="对象 -2147482550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995280" y="4437720"/>
                      <a:ext cx="155196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对象 -2147482549"/>
            <p:cNvGraphicFramePr/>
            <p:nvPr/>
          </p:nvGraphicFramePr>
          <p:xfrm>
            <a:off x="6084000" y="4437720"/>
            <a:ext cx="1492920" cy="4406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229" name="对象 -2147482549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084000" y="4437720"/>
                      <a:ext cx="1492920" cy="44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0" name="文本框 18"/>
          <p:cNvSpPr/>
          <p:nvPr/>
        </p:nvSpPr>
        <p:spPr>
          <a:xfrm>
            <a:off x="5292720" y="9810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6"/>
          <p:cNvSpPr/>
          <p:nvPr/>
        </p:nvSpPr>
        <p:spPr>
          <a:xfrm>
            <a:off x="3851280" y="3284640"/>
            <a:ext cx="10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